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63971"/>
        <c:axId val="82323229"/>
      </c:barChart>
      <c:catAx>
        <c:axId val="24863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23229"/>
        <c:crosses val="autoZero"/>
        <c:auto val="1"/>
        <c:lblAlgn val="ctr"/>
        <c:lblOffset val="100"/>
        <c:noMultiLvlLbl val="0"/>
      </c:catAx>
      <c:valAx>
        <c:axId val="82323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63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6A2-1052-4ADD-B4D1-9CE0D8E7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FA3-2699-4782-8764-6D7334D3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E61-0AC7-47FC-B0BF-DC9B1869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303-9B68-4985-8900-7375BCD4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8D6-2642-410C-B84A-9830635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099-AC86-42D5-874E-FC3E5A9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561-BE66-4A9A-B79F-824504C5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420-340E-4764-8FF4-2E0B3ED1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AD9-80BA-4C4F-8123-AC7A761D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BEC-A3AF-4C30-AAB1-D0B59021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46C-2ECC-4E85-B152-807107AB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38F-1562-40DA-AEF4-62D42C21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6C3FF-A8D4-4296-881B-513EDD048B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