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552374"/>
        <c:axId val="84556507"/>
      </c:barChart>
      <c:catAx>
        <c:axId val="695523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56507"/>
        <c:crosses val="autoZero"/>
        <c:auto val="1"/>
        <c:lblAlgn val="ctr"/>
        <c:lblOffset val="100"/>
        <c:noMultiLvlLbl val="0"/>
      </c:catAx>
      <c:valAx>
        <c:axId val="845565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523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EA37-91D8-4999-A48F-C752712A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EBC8-F68B-4138-8C3A-C13C26D7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2F56-D409-47C3-AC6B-B2753371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5D2A-E74F-42E9-88A8-59C14F53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BDFB-3746-421F-A29D-30D225E8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670F-09B5-4CFB-9157-E235E34B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59B7-F96B-46EA-AA2F-18432B4E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6459-045A-4D44-8D6E-170BF914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16EA-50C5-40DB-93FC-29C30B82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4135-BF1B-4531-A369-A5105D2C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7176-63FB-4957-8D83-F0E6384D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3277-ACFF-4E44-81D2-01AD850D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765D7-A3B2-41F7-BC34-2C8E7D2BDD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