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65474"/>
        <c:axId val="90460320"/>
      </c:barChart>
      <c:catAx>
        <c:axId val="59065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60320"/>
        <c:crosses val="autoZero"/>
        <c:auto val="1"/>
        <c:lblAlgn val="ctr"/>
        <c:lblOffset val="100"/>
        <c:noMultiLvlLbl val="0"/>
      </c:catAx>
      <c:valAx>
        <c:axId val="90460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65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EC6-AE7B-475E-9D8C-66DC034D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4322-B5EE-4297-A372-D4AE22B9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452-40E9-4627-A3B3-DBC0C2C9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1DD-CED1-47EA-88FE-17D33DD9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DD0-9999-42AC-8BFD-500042D2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DA6-9C54-4263-9EEF-21A3467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220-772D-4DF0-A48B-CB4E759E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6AD-AAC0-4FD1-9934-8564314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C5B-BB82-4C7C-9947-58329B2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45C-D614-472A-98DC-69C868E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C63-A262-42F6-A855-80ED0BC7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035-5AC6-447F-A804-74610123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9A31-0004-4D8F-BC39-30ADA62855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