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57914"/>
        <c:axId val="99909461"/>
      </c:barChart>
      <c:catAx>
        <c:axId val="102579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09461"/>
        <c:crosses val="autoZero"/>
        <c:auto val="1"/>
        <c:lblAlgn val="ctr"/>
        <c:lblOffset val="100"/>
        <c:noMultiLvlLbl val="0"/>
      </c:catAx>
      <c:valAx>
        <c:axId val="99909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579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F43-F099-4911-A27B-EA228081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0C6-249F-41C7-9C56-02A2D239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2BB1-FAD7-4905-ACE8-8962B67B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68E1-18C0-4698-BA42-60A06234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9277-FCD7-4BCD-83E6-E2FE21AB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F0E-81D2-497D-9966-B51CC113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BD00-1F4A-4531-878D-CB185E38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5CB1-960C-4027-B6CE-CA208F95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779-109E-4866-A859-9C7C3705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982A-D526-473F-A6FB-A5F12A27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EA15-E1B3-4FC7-BCA9-E56D4C75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D3E-08D1-4414-956D-F3AA2C9F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9E64D-4665-41BC-A853-14A9C04262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