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75987"/>
        <c:axId val="36877880"/>
      </c:barChart>
      <c:catAx>
        <c:axId val="26375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77880"/>
        <c:crosses val="autoZero"/>
        <c:auto val="1"/>
        <c:lblAlgn val="ctr"/>
        <c:lblOffset val="100"/>
        <c:noMultiLvlLbl val="0"/>
      </c:catAx>
      <c:valAx>
        <c:axId val="36877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75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691-9E91-4F0E-AD3E-68BBA12C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75F-A9B7-48B9-AD95-52F8A0EB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ABD-8C0C-4CC4-AEF8-C986732C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462-E9DF-4834-B1ED-FE521A0B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8BC-E7DF-4F56-8AD7-FC893401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068-8FBD-4EA7-B3F6-791D22C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615-CD9E-4B06-B624-01B68A4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5CF-046F-4ADA-8C6E-6C4AF080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6A9-329F-4E61-8EB2-870EBB2F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C5B-EA06-408E-86FA-05E3710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A86-66B5-432E-96CF-CA311A0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4E9-3C70-49FB-A360-5962A84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7EF0E-E27B-4E6F-B7C0-DAA7AFC2E0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