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8319495"/>
        <c:axId val="21365810"/>
      </c:barChart>
      <c:catAx>
        <c:axId val="8831949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365810"/>
        <c:crosses val="autoZero"/>
        <c:auto val="1"/>
        <c:lblAlgn val="ctr"/>
        <c:lblOffset val="100"/>
        <c:noMultiLvlLbl val="0"/>
      </c:catAx>
      <c:valAx>
        <c:axId val="2136581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31949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C43D6-F43B-4713-8F86-41FAEFD71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6F91-94B1-4A2F-B786-ACF437E55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3C5C-929A-4ACE-B831-CC1B41661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B8BA-BF21-4506-97D0-347D72646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C9D6-FA2B-4A1C-BF6A-004F3F58F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CE35-B60A-40E3-B86B-6FB4980EC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D7A3-1648-4A2E-B2C6-9C31298D1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ABD2-7C74-466C-970A-1637B683E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1C14-E582-4056-B6D4-B2E2E1AD0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ACD9-4706-4E16-A5A4-AD1806088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ED24-9626-474E-8C36-A7CD02AD1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BDACC-85C9-4BC2-B4B4-0DAA13C0D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BFF793-A3B4-4BE6-A57F-F54B51623C6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