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07526"/>
        <c:axId val="29353890"/>
      </c:barChart>
      <c:catAx>
        <c:axId val="46807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53890"/>
        <c:crosses val="autoZero"/>
        <c:auto val="1"/>
        <c:lblAlgn val="ctr"/>
        <c:lblOffset val="100"/>
        <c:noMultiLvlLbl val="0"/>
      </c:catAx>
      <c:valAx>
        <c:axId val="29353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07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873-EB1F-4C22-8E56-832E0E98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52B-8DB2-4B28-B6DF-2C53AB66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163-885D-4F4C-9183-9C5A23D1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0F5-29D6-4946-8438-096C92D3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C05-3C36-45A1-B25D-7DC09A5F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D41-9F1B-4F89-8BD7-19A92935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C20-497C-4A33-9323-A44625C8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8CE-7E6F-4AC6-97E1-AFB46FB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1E5-45E5-4B4F-A4E5-B89A0B39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8CA-BE6A-4B77-91A4-96DA89C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BA7-2398-4FB0-86A3-B2F8966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FF6-9D46-4692-926D-EA19C0B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5542D-E0B3-4AAE-A113-6129D76CBE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