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875212"/>
        <c:axId val="22936855"/>
      </c:barChart>
      <c:catAx>
        <c:axId val="198752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936855"/>
        <c:crosses val="autoZero"/>
        <c:auto val="1"/>
        <c:lblAlgn val="ctr"/>
        <c:lblOffset val="100"/>
        <c:noMultiLvlLbl val="0"/>
      </c:catAx>
      <c:valAx>
        <c:axId val="229368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8752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3A3C-30DC-428D-BAF4-13A223A39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98F5-7B05-4B19-A7DA-03328FD20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1FE4-5BBD-4ED8-A73D-5F75FE3F4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FE72-BEBA-4EA6-B850-AA0BA2884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0C2F-9C0A-40AF-B69B-B36E5BC01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A263-F051-4351-8668-02E2D9321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4A5A-7299-40B3-B7F5-D4572F951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2F2D-95BD-4FC3-8E77-F35DD425B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CE45-09D6-47F0-A66C-2C37CE62B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A38A-5BA1-4181-9E66-CAD98AF50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C836-3633-428D-8921-9D0663225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D9AF-A365-4C9D-9DD5-E0CB49A96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CC9ED1-1DA2-48F1-9BA9-7CD3A6DEC48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